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LIC.WAV" ContentType="audio/x-wav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E47-8CE9-4EAB-A523-C4B9262A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861-4734-46B4-A049-3CC3BAD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E81-438B-45C9-B0A8-3AE9587A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509-A1D8-4AD6-B45F-80E7F0FF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32C-9E03-4FD5-B395-00A53A04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A13-8309-4A05-985E-3BD5E6AA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F78-BC83-4FDD-B27E-8BFEA66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3B0-6A3E-43DF-BBDC-F97F125F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271-A99D-432B-A1E6-E1AB781B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D8E-8400-4EBE-8E28-C87BE73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F05-0325-45D0-B8D9-8CA0BFD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769-8874-445B-8F11-6716BB43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7F33-6408-4A70-AABA-8D4EF97B24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85800"/>
            <a:ext cx="8838360" cy="6171480"/>
            <a:chOff x="0" y="685800"/>
            <a:chExt cx="8838360" cy="6171480"/>
          </a:xfrm>
        </p:grpSpPr>
        <p:pic>
          <p:nvPicPr>
            <p:cNvPr id="42" name="P1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4394160" cy="61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2" descr=""/>
            <p:cNvPicPr/>
            <p:nvPr/>
          </p:nvPicPr>
          <p:blipFill>
            <a:blip r:embed="rId2"/>
            <a:stretch/>
          </p:blipFill>
          <p:spPr>
            <a:xfrm>
              <a:off x="4335480" y="811080"/>
              <a:ext cx="4502880" cy="60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solidFill>
            <a:srgbClr val="a50021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Impact"/>
              </a:rPr>
              <a:t>SATTUMAAKO . . . </a:t>
            </a:r>
            <a:r>
              <a:rPr b="1" lang="pt-BR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Impact"/>
              </a:rPr>
              <a:t>TÄMÄ INFORMAAT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Impact"/>
              </a:rPr>
              <a:t>ON TÄYDELLISESTI TO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a50021"/>
                </a:solidFill>
                <a:latin typeface="Impact"/>
              </a:rPr>
              <a:t>JA SE ON TARKISTETTAVIS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24680" y="60199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horz"/>
    <p:sndAc>
      <p:stSnd>
        <p:snd r:embed="rId3" name="CLIC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685800"/>
            <a:ext cx="8610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 kuoli teatterissa, jonka nimi oli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”</a:t>
            </a: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362320"/>
            <a:ext cx="830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 kuoli autossa, jonka nimi oli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334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t1" descr=""/>
          <p:cNvPicPr/>
          <p:nvPr/>
        </p:nvPicPr>
        <p:blipFill>
          <a:blip r:embed="rId2"/>
          <a:stretch/>
        </p:blipFill>
        <p:spPr>
          <a:xfrm>
            <a:off x="3057480" y="4191120"/>
            <a:ext cx="3191040" cy="200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 advTm="7000">
    <p:dissolve/>
    <p:sndAc>
      <p:stSnd>
        <p:snd r:embed="rId3" name="CLIC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3808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ohn Wilkes Booth pakeni teatterista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a saatiin kiinni varasto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4382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ee Harvey Oswald pakeni varastosta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a saatiin kiinni teatteri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5334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419720"/>
            <a:ext cx="746748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at, Booth y Oswald, murhattiin ennen  oikeudenkäyntiä .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  <p:sndAc>
      <p:stSnd>
        <p:snd r:embed="rId2" name="CL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6668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iikkoa ennen murhaansa,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 oli Monroessa, Marylandi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iikkoa ennen murhaansa,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 oli Marilyn Monroen kan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5638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335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Tämä seuraava on kaikkein uskomattomin .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  <p:sndAc>
      <p:stSnd>
        <p:snd r:embed="rId2" name="CLIC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e6e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z33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00400" y="2133720"/>
            <a:ext cx="2895480" cy="2087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6858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oiko tämä todellakin olla pelkkää sattumaa . . .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9528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Voidaanko ajatella, että tätä maailmaa hallitsevat sellaiset voimat joita todellisuudessa emme tunne . . . 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57150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strips dir="lu"/>
    <p:sndAc>
      <p:stSnd>
        <p:snd r:embed="rId2" name="CLIC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2c2c2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jfkbuena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469960" cy="3124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5715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. . . on meiltä salattu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5943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uultavasti oikea todellisuu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edelleenkin . . 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"/>
    <p:sndAc>
      <p:stSnd>
        <p:snd r:embed="rId2" name="CLIC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38080"/>
            <a:ext cx="8610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Abraham Lincoln valittiin kongressissa v.</a:t>
            </a:r>
            <a:r>
              <a:rPr b="0" lang="es-MX" sz="2800" spc="-1" strike="noStrike">
                <a:solidFill>
                  <a:srgbClr val="cc0000"/>
                </a:solidFill>
                <a:latin typeface="Impact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18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John F. Kennedy valittiin kongressissa v. 19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59092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Abraham Lincoln valittiin presidentinvaaleissa  v. 18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Impact"/>
              </a:rPr>
              <a:t>John F. Kennedy valittiin presidentinvaaleissa  v. 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fk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1371600" cy="182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0" name="lincoln" descr=""/>
          <p:cNvPicPr/>
          <p:nvPr/>
        </p:nvPicPr>
        <p:blipFill>
          <a:blip r:embed="rId3"/>
          <a:stretch/>
        </p:blipFill>
        <p:spPr>
          <a:xfrm>
            <a:off x="2048040" y="4495680"/>
            <a:ext cx="1380960" cy="182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7010280" y="57913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zoom dir="in"/>
    <p:sndAc>
      <p:stSnd>
        <p:snd r:embed="rId4" name="CL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JJ" descr=""/>
          <p:cNvPicPr/>
          <p:nvPr/>
        </p:nvPicPr>
        <p:blipFill>
          <a:blip r:embed="rId2"/>
          <a:stretch/>
        </p:blipFill>
        <p:spPr>
          <a:xfrm>
            <a:off x="5810400" y="2819520"/>
            <a:ext cx="2692080" cy="3581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80880" y="9907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in ja Kennedyn sukunimissä on molemmissa  seitsemän kirjaint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505320"/>
            <a:ext cx="5410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olivat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äheisesti sitoutuneita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ihmisoikeuksien puolest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867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checker dir="horz"/>
    <p:sndAc>
      <p:stSnd>
        <p:snd r:embed="rId3" name="CLIC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z335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4172040" cy="300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0880" y="9144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presidenttien vaimot menettivät lapsia asuessaan Valkoisessa Talos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657600"/>
            <a:ext cx="3962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a presidenttejä ammuttiin päähän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4800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cover dir="d"/>
    <p:sndAc>
      <p:stSnd>
        <p:snd r:embed="rId3" name="CLIC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2952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presidentit murhattii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perjantain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862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in sihteerin sukunimi oli Kennedy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n sihteerin sukunimi oli Lincol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7320" y="5486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vert"/>
    <p:sndAc>
      <p:stSnd>
        <p:snd r:embed="rId2" name="CL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295280"/>
            <a:ext cx="8610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presidentit murhasi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etelävaltiolainen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9625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presidenttien seuraajat olivat etelävaltiolaisi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5410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u"/>
    <p:sndAc>
      <p:stSnd>
        <p:snd r:embed="rId2" name="CLIC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80880"/>
            <a:ext cx="8610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seuraajien etunimissä oli kuusi kirjainta ja molempien sukunimi oli Johnso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209680"/>
            <a:ext cx="8305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Andrew Johnson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incolnin seuraaja, syntyi vuonna 1808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yndon Johnson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ennedyn seuraaja, syntyi vuonna 1908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4100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wipe dir="u"/>
    <p:sndAc>
      <p:stSnd>
        <p:snd r:embed="rId2" name="CLIC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7621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John Wilkes Booth, Lincolnin murhaaja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syntyi vuonna 1839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743200"/>
            <a:ext cx="830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Lee Harvey Oswald, Kennedyn murhaaja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syntyi vuonna 1939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swald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1752480" cy="226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7400" y="59436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d"/>
    <p:sndAc>
      <p:stSnd>
        <p:snd r:embed="rId3" name="CL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1371600"/>
            <a:ext cx="8610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mat murhaajat tunnettiin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kolmelta nimeltä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038480"/>
            <a:ext cx="8305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300" spc="-1" strike="noStrike">
                <a:solidFill>
                  <a:srgbClr val="ffffff"/>
                </a:solidFill>
                <a:latin typeface="Impact"/>
              </a:rPr>
              <a:t>Molempien nimessä on 15 kirjaint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1000" y="5334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wipe dir="d"/>
    <p:sndAc>
      <p:stSnd>
        <p:snd r:embed="rId2" name="CLIC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6:31:04Z</dcterms:created>
  <dc:creator>Carlos Montero</dc:creator>
  <dc:description/>
  <dc:language>en-US</dc:language>
  <cp:lastModifiedBy>Satu Lampi</cp:lastModifiedBy>
  <dcterms:modified xsi:type="dcterms:W3CDTF">2002-06-22T19:58:21Z</dcterms:modified>
  <cp:revision>74</cp:revision>
  <dc:subject/>
  <dc:title>Coincidencia ?</dc:title>
</cp:coreProperties>
</file>