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LIC.WAV" ContentType="audio/x-wav"/>
  <Override PartName="/ppt/media/image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FE0-4BE2-4CD1-9C44-4B850008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448-9ACF-4723-8B05-1E501B74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04A-4C16-44F8-845A-6151A6B7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854-DEB9-4261-8555-4C7AAFCE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5DE-8B25-49A4-9647-6EFF465D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A76-2286-4500-9A06-CA8C4F31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286-C7F4-4AE9-B99F-A21E496C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D80-B854-4ED0-BE8B-7BBCA343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51D-847B-4F56-B461-96D97913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B8C-472C-4F62-A150-1F91C652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02E-8644-4494-BBD3-106A654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8C0-9BCE-4EBF-8BAE-E288BC76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E8DC-CCB8-41A3-9A9C-8C1867F72C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85800"/>
            <a:ext cx="8838360" cy="6171480"/>
            <a:chOff x="0" y="685800"/>
            <a:chExt cx="8838360" cy="6171480"/>
          </a:xfrm>
        </p:grpSpPr>
        <p:pic>
          <p:nvPicPr>
            <p:cNvPr id="42" name="P1" descr=""/>
            <p:cNvPicPr/>
            <p:nvPr/>
          </p:nvPicPr>
          <p:blipFill>
            <a:blip r:embed="rId1"/>
            <a:stretch/>
          </p:blipFill>
          <p:spPr>
            <a:xfrm>
              <a:off x="0" y="685800"/>
              <a:ext cx="4394160" cy="61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2" descr=""/>
            <p:cNvPicPr/>
            <p:nvPr/>
          </p:nvPicPr>
          <p:blipFill>
            <a:blip r:embed="rId2"/>
            <a:stretch/>
          </p:blipFill>
          <p:spPr>
            <a:xfrm>
              <a:off x="4335480" y="811080"/>
              <a:ext cx="4502880" cy="60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solidFill>
            <a:srgbClr val="a50021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ffff"/>
                </a:solidFill>
                <a:latin typeface="Impact"/>
              </a:rPr>
              <a:t>SATTUMAAKO . . . </a:t>
            </a:r>
            <a:r>
              <a:rPr b="1" lang="pt-BR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Impact"/>
              </a:rPr>
              <a:t>TÄMÄ INFORMAAT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Impact"/>
              </a:rPr>
              <a:t>ON TÄYDELLISESTI TO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Impact"/>
              </a:rPr>
              <a:t>JA SE ON TARKISTETTAVIS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24680" y="60199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blinds dir="horz"/>
    <p:sndAc>
      <p:stSnd>
        <p:snd r:embed="rId3" name="CLIC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685800"/>
            <a:ext cx="8610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 kuoli teatterissa, jonka nimi oli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”</a:t>
            </a: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ennedy”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362320"/>
            <a:ext cx="830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ennedy kuoli autossa, jonka nimi oli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”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334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lt1" descr=""/>
          <p:cNvPicPr/>
          <p:nvPr/>
        </p:nvPicPr>
        <p:blipFill>
          <a:blip r:embed="rId2"/>
          <a:stretch/>
        </p:blipFill>
        <p:spPr>
          <a:xfrm>
            <a:off x="3057480" y="4191120"/>
            <a:ext cx="3191040" cy="200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 advTm="7000">
    <p:dissolve/>
    <p:sndAc>
      <p:stSnd>
        <p:snd r:embed="rId3" name="CLIC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38088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John Wilkes Booth pakeni teatterista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ja saatiin kiinni varastoss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4382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ee Harvey Oswald pakeni varastosta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ja saatiin kiinni teatteriss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5334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419720"/>
            <a:ext cx="746748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at, Booth y Oswald, murhattiin ennen  oikeudenkäyntiä . . . 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  <p:sndAc>
      <p:stSnd>
        <p:snd r:embed="rId2" name="CLIC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26668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Viikkoa ennen murhaansa,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 oli Monroessa, Marylandiss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Viikkoa ennen murhaansa,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ennedy oli Marilyn Monroen kanss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5638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33520"/>
            <a:ext cx="861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Tämä seuraava on kaikkein uskomattomin . . . 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  <p:sndAc>
      <p:stSnd>
        <p:snd r:embed="rId2" name="CLIC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e6e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z33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00400" y="2133720"/>
            <a:ext cx="2895480" cy="208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685800"/>
            <a:ext cx="8610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Voiko tämä todellakin olla pelkkää sattumaa . . . 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9528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Voidaanko ajatella, että tätä maailmaa hallitsevat sellaiset voimat joita todellisuudessa emme tunne . . . 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2400" y="57150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trips dir="lu"/>
    <p:sndAc>
      <p:stSnd>
        <p:snd r:embed="rId2" name="CLIC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2c2c2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jfkbuena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469960" cy="3124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5715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. . . on meiltä salattu . . 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59436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094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uultavasti oikea todellisuu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edelleenkin . . 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ll dir="l"/>
    <p:sndAc>
      <p:stSnd>
        <p:snd r:embed="rId2" name="CLIC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38080"/>
            <a:ext cx="8610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Impact"/>
              </a:rPr>
              <a:t>Abraham Lincoln valittiin kongressissa v.</a:t>
            </a:r>
            <a:r>
              <a:rPr b="0" lang="es-MX" sz="2800" spc="-1" strike="noStrike">
                <a:solidFill>
                  <a:srgbClr val="cc0000"/>
                </a:solidFill>
                <a:latin typeface="Impact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Impact"/>
              </a:rPr>
              <a:t>18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Impact"/>
              </a:rPr>
              <a:t>John F. Kennedy valittiin kongressissa v. 19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59092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Impact"/>
              </a:rPr>
              <a:t>Abraham Lincoln valittiin presidentinvaaleissa  v. 18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Impact"/>
              </a:rPr>
              <a:t>John F. Kennedy valittiin presidentinvaaleissa  v. 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fk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1371600" cy="1828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0" name="lincoln" descr=""/>
          <p:cNvPicPr/>
          <p:nvPr/>
        </p:nvPicPr>
        <p:blipFill>
          <a:blip r:embed="rId3"/>
          <a:stretch/>
        </p:blipFill>
        <p:spPr>
          <a:xfrm>
            <a:off x="2048040" y="4495680"/>
            <a:ext cx="1380960" cy="1828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7010280" y="57913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zoom dir="in"/>
    <p:sndAc>
      <p:stSnd>
        <p:snd r:embed="rId4" name="CLIC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JJ" descr=""/>
          <p:cNvPicPr/>
          <p:nvPr/>
        </p:nvPicPr>
        <p:blipFill>
          <a:blip r:embed="rId2"/>
          <a:stretch/>
        </p:blipFill>
        <p:spPr>
          <a:xfrm>
            <a:off x="5810400" y="2819520"/>
            <a:ext cx="2692080" cy="3581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80880" y="9907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in ja Kennedyn sukunimissä on molemmissa  seitsemän kirjaint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505320"/>
            <a:ext cx="5410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mat olivat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äheisesti sitoutuneita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ihmisoikeuksien puolest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5867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checker dir="horz"/>
    <p:sndAc>
      <p:stSnd>
        <p:snd r:embed="rId3" name="CLIC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z335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4172040" cy="3006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80880" y="914400"/>
            <a:ext cx="8610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pien presidenttien vaimot menettivät lapsia asuessaan Valkoisessa Taloss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657600"/>
            <a:ext cx="3962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pia presidenttejä ammuttiin päähän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48006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cover dir="d"/>
    <p:sndAc>
      <p:stSnd>
        <p:snd r:embed="rId3" name="CLIC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29528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mat presidentit murhattiin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perjantain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8862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in sihteerin sukunimi oli Kennedy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ennedyn sihteerin sukunimi oli Lincol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77320" y="5486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blinds dir="vert"/>
    <p:sndAc>
      <p:stSnd>
        <p:snd r:embed="rId2" name="CLIC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295280"/>
            <a:ext cx="8610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mat presidentit murhasi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etelävaltiolainen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9625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pien presidenttien seuraajat olivat etelävaltiolaisi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01000" y="54100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ll dir="lu"/>
    <p:sndAc>
      <p:stSnd>
        <p:snd r:embed="rId2" name="CLIC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380880"/>
            <a:ext cx="8610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pien seuraajien etunimissä oli kuusi kirjainta ja molempien sukunimi oli Johnso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209680"/>
            <a:ext cx="8305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Andrew Johnson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in seuraaja, syntyi vuonna 1808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yndon Johnson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ennedyn seuraaja, syntyi vuonna 1908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4100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wipe dir="u"/>
    <p:sndAc>
      <p:stSnd>
        <p:snd r:embed="rId2" name="CLIC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7621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John Wilkes Booth, Lincolnin murhaaja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syntyi vuonna 1839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743200"/>
            <a:ext cx="8305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ee Harvey Oswald, Kennedyn murhaaja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syntyi vuonna 1939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oswald" descr=""/>
          <p:cNvPicPr/>
          <p:nvPr/>
        </p:nvPicPr>
        <p:blipFill>
          <a:blip r:embed="rId2"/>
          <a:stretch/>
        </p:blipFill>
        <p:spPr>
          <a:xfrm>
            <a:off x="6248520" y="4267080"/>
            <a:ext cx="1752480" cy="226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57400" y="59436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ll dir="ld"/>
    <p:sndAc>
      <p:stSnd>
        <p:snd r:embed="rId3" name="CLIC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371600"/>
            <a:ext cx="8610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mat murhaajat tunnettiin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olmelta nimeltä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038480"/>
            <a:ext cx="8305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pien nimessä on 15 kirjaint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01000" y="5334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wipe dir="d"/>
    <p:sndAc>
      <p:stSnd>
        <p:snd r:embed="rId2" name="CLIC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6:31:04Z</dcterms:created>
  <dc:creator>Carlos Montero</dc:creator>
  <dc:description/>
  <dc:language>en-US</dc:language>
  <cp:lastModifiedBy>Satu Lampi</cp:lastModifiedBy>
  <dcterms:modified xsi:type="dcterms:W3CDTF">2002-06-22T19:58:21Z</dcterms:modified>
  <cp:revision>74</cp:revision>
  <dc:subject/>
  <dc:title>Coincidencia ?</dc:title>
</cp:coreProperties>
</file>